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5.wmf" ContentType="image/x-wmf"/>
  <Override PartName="/ppt/media/image24.jpeg" ContentType="image/jpeg"/>
  <Override PartName="/ppt/media/image23.png" ContentType="image/png"/>
  <Override PartName="/ppt/media/image22.wmf" ContentType="image/x-wmf"/>
  <Override PartName="/ppt/media/image20.png" ContentType="image/png"/>
  <Override PartName="/ppt/media/image18.wmf" ContentType="image/x-wmf"/>
  <Override PartName="/ppt/media/image21.wmf" ContentType="image/x-wmf"/>
  <Override PartName="/ppt/media/image19.wmf" ContentType="image/x-wmf"/>
  <Override PartName="/ppt/media/image26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.png" ContentType="image/png"/>
  <Override PartName="/ppt/media/image31.png" ContentType="image/png"/>
  <Override PartName="/ppt/media/image30.png" ContentType="image/png"/>
  <Override PartName="/ppt/media/image35.jpeg" ContentType="image/jpeg"/>
  <Override PartName="/ppt/media/image28.png" ContentType="image/png"/>
  <Override PartName="/ppt/media/image8.jpeg" ContentType="image/jpeg"/>
  <Override PartName="/ppt/media/image38.png" ContentType="image/png"/>
  <Override PartName="/ppt/media/image14.png" ContentType="image/png"/>
  <Override PartName="/ppt/media/image9.wmf" ContentType="image/x-wmf"/>
  <Override PartName="/ppt/media/image42.jpeg" ContentType="image/jpeg"/>
  <Override PartName="/ppt/media/image33.jpeg" ContentType="image/jpeg"/>
  <Override PartName="/ppt/media/image39.png" ContentType="image/png"/>
  <Override PartName="/ppt/media/image40.jpeg" ContentType="image/jpeg"/>
  <Override PartName="/ppt/media/image44.jpeg" ContentType="image/jpeg"/>
  <Override PartName="/ppt/media/image12.wmf" ContentType="image/x-wmf"/>
  <Override PartName="/ppt/media/image13.png" ContentType="image/png"/>
  <Override PartName="/ppt/media/image5.png" ContentType="image/png"/>
  <Override PartName="/ppt/media/image43.jpeg" ContentType="image/jpeg"/>
  <Override PartName="/ppt/media/image37.png" ContentType="image/png"/>
  <Override PartName="/ppt/media/image34.jpeg" ContentType="image/jpeg"/>
  <Override PartName="/ppt/media/image7.png" ContentType="image/png"/>
  <Override PartName="/ppt/media/image15.wmf" ContentType="image/x-wmf"/>
  <Override PartName="/ppt/media/image41.jpeg" ContentType="image/jpeg"/>
  <Override PartName="/ppt/media/image11.png" ContentType="image/png"/>
  <Override PartName="/ppt/media/image10.wmf" ContentType="image/x-wmf"/>
  <Override PartName="/ppt/media/image4.jpeg" ContentType="image/jpeg"/>
  <Override PartName="/ppt/media/image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8C51A-80A3-44F3-8CBA-5DBE8F90754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BB428-EABE-4750-B8CA-7255FB40AD1D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8CD15-2219-4C19-A8E9-500AFCF6A002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BB01C-1A01-42E1-B28C-1ECE5BBE26A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B0844-9F3A-4FEE-A745-AE5BD716B6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61FDB-6179-4519-B6A0-9FA483CFDCCA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DDD33-906F-4787-AC5E-1E38A3EEA6E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725BF-98A9-46DB-8D96-1C955B3D871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B910D-B7EF-42D4-A7FF-6CAA21B533F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0CE42-2226-41AD-AFFE-F35B27784C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04323-FCF7-4BBB-89FA-6A4915BBCA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CBF2B-5C72-4F14-B3D9-B5AAF7AD07E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E047F-20CD-45B5-A8FE-870104301F0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CD094-B428-4331-BB6B-D35B3A575F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AA470-47AC-4552-B6DE-8804354257F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C63E1-2A1F-4B61-A087-0482467C90C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Arial"/>
              </a:rPr>
              <a:t>هدف اصلی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al health</a:t>
            </a:r>
            <a:r>
              <a:rPr b="0" lang="fa-IR" sz="1200" spc="-1" strike="noStrike">
                <a:solidFill>
                  <a:srgbClr val="000000"/>
                </a:solidFill>
                <a:latin typeface="Arial"/>
              </a:rPr>
              <a:t> پیشگیری اولیه و ثانویه است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18FD3-573F-47EC-9988-A619CFD59FE6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CACF2-C208-49C9-9693-2BA29C4777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D664F-5DFB-49A8-A21C-27B25ACF76B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83BD5-0347-4960-A088-036B912B5A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D0287-FA14-4217-83C2-27B0E657CA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722B5-2CCA-47AF-B82F-A806362B1A1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9288D-1E4E-43BD-B562-77319FC435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DF35C-FC2B-49D8-A41E-F462362CDC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82795-434D-487E-8AE9-822CEAEAEB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203AA-5EBE-4BA2-8BA2-FC47FE65E5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B945F-B9C0-43AF-820C-69642D9865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C7CCE-436D-4F98-BD1B-32398AA3714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72180-4F82-47B5-9435-0D2B7D33218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2040D-71F6-4ACC-A1FC-A4FF479B4AD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8EB2B-B09C-4B3E-9F21-79A06DCBE16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8A272-B5CB-4782-972E-942674C5257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49A3E-FB77-456B-B8CA-AA126E6167C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0D4B7-82C4-40CE-A9B8-55A285558A8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C66B7-3AB8-4E1A-9C3F-C3C1FF48A498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3/2/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8FCAB-6329-4689-986C-E322BF583BBE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93AF-E7A0-409C-A064-524644A30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FB9B-3B5B-4DBD-A0AD-BA519EAE6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BC33-D3EB-489D-8748-4BB1A4CBD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CB34-A289-4D5F-81EB-FE75465C0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74361-F02D-4144-A4F4-6AC40C76A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B068B-3C6C-4DDF-8482-7147B7464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0FFE8-B889-48AE-950A-E7DC91B6B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A4B07-023F-4590-AB00-851235DB8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2542F-FB33-436B-85B1-A9C6BF52C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863DA-66AC-40E1-9527-649FDC35E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038BD-E697-4D53-B44E-89F49FA3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9A72-8135-44D6-A170-C578E04C7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B2379-966D-42E0-A5C1-86421258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C34D5-C523-4793-AEBD-09DD469E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6051A-E013-4AA6-BC39-874E5A839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CAC87-8DE3-4916-AD30-63426D377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B3EE5-8B1B-4FC2-B2FF-61DAF9C74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AEBD7-9BB7-4661-8C87-930046426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08B12-0819-4274-88B8-CE01B8810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A539B-C582-4009-835B-063420D0F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02158-E11E-42B8-AB6F-AC719D976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60949-B7B8-4619-9D0E-7B7504217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CC3C-2F56-4F28-A8C5-F0AABDC43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FF5DA-962E-435B-9886-2A3C2459B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659DF-46B7-43DD-A341-AAA21A5E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54784-917A-425D-8C6C-1D55EDCB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A9C4F-CCB2-44E2-9B1D-20406F17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94FB9-06D7-4784-BEFC-F841A823C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9956F-1693-416E-BA66-8C7FB10FC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F175D-CD28-4531-8658-6AD1354E4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CEBD7-3F92-4AF7-8D7A-345747868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63C05-A5E9-459E-BC29-667C91889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15A53-EE5D-4BC0-B8F5-0730B93E2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3131-FCF5-4A84-BF05-B5BACCA5C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1DDCB-6CE9-4E27-8E93-30D2BDE4B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68A59-1B8A-448D-AEFF-1B002111A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A36F3-5ECE-4164-B72C-DF91FA11B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4CD2E-A2FB-465A-B54D-D6C00DF2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CF666-1049-41C9-95BE-30517996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DA7E9-F819-4E25-8314-47FD4291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3FEDA-028B-487E-9783-3974C052F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650ED-2FB8-40CB-873D-63FFD8824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D74A8-BD04-4960-B7CD-777C40448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3DBD-4893-46FD-ADE4-4539F33EA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D337-1762-47CB-B59E-AA285EB09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D19B-811F-4D0A-B170-DC9307D6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CDDF-041E-45EA-80F8-A2E82989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C563-3DFC-458B-A43A-068DBD6F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BD97E-4DA3-479E-9422-E574B59B4C2A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9B138-D14C-467E-BF84-E2BF9EBC86FF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63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9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00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F1640-7F49-4EF4-B177-FDA500C3186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44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0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81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6D363-5225-473D-AECF-6DC0558766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0.wmf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wm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5.wmf"/><Relationship Id="rId5" Type="http://schemas.openxmlformats.org/officeDocument/2006/relationships/image" Target="../media/image26.jpeg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" Target="slide28.xml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" Target="slide28.xml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" Target="slide28.xml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jpeg"/><Relationship Id="rId3" Type="http://schemas.openxmlformats.org/officeDocument/2006/relationships/hyperlink" Target="http://images.google.com/imgres?imgurl=http://img.slate.com/media/1/123125/122981/2111757/2118667/02_Custom-Plugs_tn.jpg&amp;imgrefurl=http://www.slate.com/id/2118800/&amp;h=150&amp;w=205&amp;sz=6&amp;hl=en&amp;start=3&amp;tbnid=O3tLQE_O3zbjwM:&amp;tbnh=77&amp;tbnw=105&amp;prev=/images%3Fq%3D%2522ear%2Bplug%2522%26svnum%3D10%26hl%3Den%26lr%3D" TargetMode="External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ffice365.co.uk/im/pim/134049.jpg&amp;imgrefurl=http://www.office365.co.uk/Safety-Security/134049-3M-Premium-Ear.htm&amp;h=300&amp;w=250&amp;sz=22&amp;hl=en&amp;start=60&amp;tbnid=bWAGtQ4YuJreVM:&amp;tbnh=116&amp;tbnw=97&amp;prev=/images%3Fq%3D%2522ear%2Bmuff%2522%26start%3D40%26ndsp%3D20%26svnum%3D10%26hl%3Den%26lr%3D%26sa%3DN" TargetMode="External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914400" y="2895120"/>
            <a:ext cx="4952880" cy="3048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8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ABNORM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Arial"/>
              </a:rPr>
              <a:t>NORM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B Nazanin"/>
              </a:rPr>
              <a:t>10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  <a:ea typeface="B Nazanin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WordArt 4"/>
          <p:cNvSpPr txBox="1"/>
          <p:nvPr/>
        </p:nvSpPr>
        <p:spPr>
          <a:xfrm>
            <a:off x="2057400" y="685800"/>
            <a:ext cx="5181480" cy="14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PINAL RADIOGRAM</a:t>
            </a:r>
            <a:endParaRPr b="0" lang="en-US" sz="20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34" name="Picture 5" descr="014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ff"/>
                </a:solidFill>
                <a:latin typeface="Arial"/>
              </a:rPr>
              <a:t>معاینات دوره ا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457200" y="2131920"/>
            <a:ext cx="822960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8360" y="5331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Return to Work Examinations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(RTW Exam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07960" y="2361960"/>
            <a:ext cx="822960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absence for a serious ill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Physical capaci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job de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xit examin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Structures of exit examination is the same as </a:t>
            </a:r>
            <a:r>
              <a:rPr b="0" lang="en-US" sz="3200" spc="-1" strike="noStrike">
                <a:solidFill>
                  <a:srgbClr val="33ccff"/>
                </a:solidFill>
                <a:latin typeface="Times New Roman"/>
                <a:ea typeface="Times New Roman"/>
              </a:rPr>
              <a:t>periodic exa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Exit examination should be based on </a:t>
            </a:r>
            <a:r>
              <a:rPr b="0" lang="en-US" sz="3200" spc="-1" strike="noStrike">
                <a:solidFill>
                  <a:srgbClr val="33ccff"/>
                </a:solidFill>
                <a:latin typeface="Times New Roman"/>
                <a:ea typeface="Times New Roman"/>
              </a:rPr>
              <a:t>target organ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or substances specific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Classification of Sick Employe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Occupational Dis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-related diseas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6d1e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6d1ec"/>
                </a:solidFill>
                <a:latin typeface="Arial"/>
              </a:rPr>
              <a:t>Work-induced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6d1e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6d1ec"/>
                </a:solidFill>
                <a:latin typeface="Arial"/>
              </a:rPr>
              <a:t>Work-aggravated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linger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Workplace-Disease Intera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AutoShape 4"/>
          <p:cNvSpPr/>
          <p:nvPr/>
        </p:nvSpPr>
        <p:spPr>
          <a:xfrm>
            <a:off x="838080" y="2362320"/>
            <a:ext cx="2743200" cy="114300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Workplace haza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AutoShape 5"/>
          <p:cNvSpPr/>
          <p:nvPr/>
        </p:nvSpPr>
        <p:spPr>
          <a:xfrm>
            <a:off x="6095880" y="2362320"/>
            <a:ext cx="2667240" cy="112860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Occupational dis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AutoShape 6"/>
          <p:cNvSpPr/>
          <p:nvPr/>
        </p:nvSpPr>
        <p:spPr>
          <a:xfrm>
            <a:off x="6086520" y="4114800"/>
            <a:ext cx="2895480" cy="10666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Various Pre-exis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non-occupational dise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AutoShape 7"/>
          <p:cNvSpPr/>
          <p:nvPr/>
        </p:nvSpPr>
        <p:spPr>
          <a:xfrm>
            <a:off x="914400" y="411480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Workplace haza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Line 8"/>
          <p:cNvSpPr/>
          <p:nvPr/>
        </p:nvSpPr>
        <p:spPr>
          <a:xfrm>
            <a:off x="3581280" y="2895480"/>
            <a:ext cx="2514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Line 9"/>
          <p:cNvSpPr/>
          <p:nvPr/>
        </p:nvSpPr>
        <p:spPr>
          <a:xfrm>
            <a:off x="3581280" y="4724280"/>
            <a:ext cx="2514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10"/>
          <p:cNvSpPr/>
          <p:nvPr/>
        </p:nvSpPr>
        <p:spPr>
          <a:xfrm>
            <a:off x="4129200" y="23623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n indu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Box 11"/>
          <p:cNvSpPr/>
          <p:nvPr/>
        </p:nvSpPr>
        <p:spPr>
          <a:xfrm>
            <a:off x="3962520" y="41958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n aggrav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hy diagnosis of occupational disease is importan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22507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ly diagn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ropriate and effective trea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fective workplace interven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e coworkers ( disease cluster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co-legal asp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 potential course of a disease &amp; the opportunities for</a:t>
            </a:r>
            <a:br>
              <a:rPr sz="24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REVE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Rectangle 31"/>
          <p:cNvSpPr/>
          <p:nvPr/>
        </p:nvSpPr>
        <p:spPr>
          <a:xfrm>
            <a:off x="250920" y="4076640"/>
            <a:ext cx="1657080" cy="1297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ea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is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Rectangle 32"/>
          <p:cNvSpPr/>
          <p:nvPr/>
        </p:nvSpPr>
        <p:spPr>
          <a:xfrm>
            <a:off x="2700360" y="4076640"/>
            <a:ext cx="1728720" cy="1297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ymptomatic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ea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Rectangle 33"/>
          <p:cNvSpPr/>
          <p:nvPr/>
        </p:nvSpPr>
        <p:spPr>
          <a:xfrm>
            <a:off x="5076720" y="4076640"/>
            <a:ext cx="1586160" cy="1297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ymptomatic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ea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34"/>
          <p:cNvSpPr/>
          <p:nvPr/>
        </p:nvSpPr>
        <p:spPr>
          <a:xfrm>
            <a:off x="7308720" y="4076640"/>
            <a:ext cx="1657440" cy="1297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icatio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Line 41"/>
          <p:cNvSpPr/>
          <p:nvPr/>
        </p:nvSpPr>
        <p:spPr>
          <a:xfrm>
            <a:off x="2050920" y="4508640"/>
            <a:ext cx="503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Line 42"/>
          <p:cNvSpPr/>
          <p:nvPr/>
        </p:nvSpPr>
        <p:spPr>
          <a:xfrm>
            <a:off x="4500720" y="4508640"/>
            <a:ext cx="5047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Line 43"/>
          <p:cNvSpPr/>
          <p:nvPr/>
        </p:nvSpPr>
        <p:spPr>
          <a:xfrm>
            <a:off x="6732720" y="4508640"/>
            <a:ext cx="5047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Line 44"/>
          <p:cNvSpPr/>
          <p:nvPr/>
        </p:nvSpPr>
        <p:spPr>
          <a:xfrm>
            <a:off x="2050920" y="5084640"/>
            <a:ext cx="50328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Line 45"/>
          <p:cNvSpPr/>
          <p:nvPr/>
        </p:nvSpPr>
        <p:spPr>
          <a:xfrm>
            <a:off x="6732720" y="5084640"/>
            <a:ext cx="50328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Line 46"/>
          <p:cNvSpPr/>
          <p:nvPr/>
        </p:nvSpPr>
        <p:spPr>
          <a:xfrm>
            <a:off x="4500720" y="5084640"/>
            <a:ext cx="50292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47"/>
          <p:cNvSpPr/>
          <p:nvPr/>
        </p:nvSpPr>
        <p:spPr>
          <a:xfrm>
            <a:off x="2050920" y="573408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 Box 48"/>
          <p:cNvSpPr/>
          <p:nvPr/>
        </p:nvSpPr>
        <p:spPr>
          <a:xfrm>
            <a:off x="4427640" y="573408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$$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49"/>
          <p:cNvSpPr/>
          <p:nvPr/>
        </p:nvSpPr>
        <p:spPr>
          <a:xfrm>
            <a:off x="6443640" y="5661000"/>
            <a:ext cx="1079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$$$$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$$$$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 Box 50"/>
          <p:cNvSpPr/>
          <p:nvPr/>
        </p:nvSpPr>
        <p:spPr>
          <a:xfrm>
            <a:off x="1547640" y="2852640"/>
            <a:ext cx="1511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mar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ven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51"/>
          <p:cNvSpPr/>
          <p:nvPr/>
        </p:nvSpPr>
        <p:spPr>
          <a:xfrm>
            <a:off x="3924360" y="2852640"/>
            <a:ext cx="1800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ar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ven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52"/>
          <p:cNvSpPr/>
          <p:nvPr/>
        </p:nvSpPr>
        <p:spPr>
          <a:xfrm>
            <a:off x="6156360" y="2852640"/>
            <a:ext cx="1728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rtiar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ven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Line 53"/>
          <p:cNvSpPr/>
          <p:nvPr/>
        </p:nvSpPr>
        <p:spPr>
          <a:xfrm>
            <a:off x="4716360" y="3716280"/>
            <a:ext cx="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Line 54"/>
          <p:cNvSpPr/>
          <p:nvPr/>
        </p:nvSpPr>
        <p:spPr>
          <a:xfrm>
            <a:off x="6948360" y="3716280"/>
            <a:ext cx="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Line 55"/>
          <p:cNvSpPr/>
          <p:nvPr/>
        </p:nvSpPr>
        <p:spPr>
          <a:xfrm>
            <a:off x="2268360" y="3716280"/>
            <a:ext cx="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0" y="198108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VENTION OF WORK RELATED MUSCULOSKELETAL DISORDER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898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این بیماریها معمولا صدمات حادی نبوده و در طی هفته ها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ماهها و سالها مواجهه با وظایفی که نیاز به حرکات سریع و تکراری همراه با نیروی زیاد دارند ایجاد می شو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در گذشته برای این گروه از بیماریها از اصطلاحات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TD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SI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MD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استفاده میش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98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98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PREVENTION OF OCCUPATIONAL DISEAS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BY:Morteza davoodi  M.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768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768" fill="hold"/>
                                        <p:tgtEl>
                                          <p:spTgt spid="3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" dur="768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" dur="768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ccupational Physical Stressors (Job Risk Factor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et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wkward pos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ct st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b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epeti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pid repeated movements every few seco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typing, packa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Picture 4" descr="9"/>
          <p:cNvPicPr/>
          <p:nvPr/>
        </p:nvPicPr>
        <p:blipFill>
          <a:blip r:embed="rId3"/>
          <a:stretch/>
        </p:blipFill>
        <p:spPr>
          <a:xfrm>
            <a:off x="2484360" y="3645000"/>
            <a:ext cx="35560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r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Picture 3" descr=""/>
          <p:cNvPicPr/>
          <p:nvPr/>
        </p:nvPicPr>
        <p:blipFill>
          <a:blip r:embed="rId1"/>
          <a:stretch/>
        </p:blipFill>
        <p:spPr>
          <a:xfrm>
            <a:off x="5724360" y="4437000"/>
            <a:ext cx="1008360" cy="93528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f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s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n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load carrying, hand tool work, dentistry,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Picture 5" descr=""/>
          <p:cNvPicPr/>
          <p:nvPr/>
        </p:nvPicPr>
        <p:blipFill>
          <a:blip r:embed="rId6"/>
          <a:stretch/>
        </p:blipFill>
        <p:spPr>
          <a:xfrm>
            <a:off x="2771640" y="3933720"/>
            <a:ext cx="1092240" cy="11304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6" descr="brewery2_6"/>
          <p:cNvPicPr/>
          <p:nvPr/>
        </p:nvPicPr>
        <p:blipFill>
          <a:blip r:embed="rId7"/>
          <a:stretch/>
        </p:blipFill>
        <p:spPr>
          <a:xfrm>
            <a:off x="3995640" y="1628640"/>
            <a:ext cx="3276720" cy="190512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6" dur="1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0" dur="1000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7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" dur="1000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1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8" dur="1000"/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ulder abduction, flexion, ele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electrician, plumber, painter, car assembly line, telephone operator,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2" name="Picture 4" descr=""/>
          <p:cNvPicPr/>
          <p:nvPr/>
        </p:nvPicPr>
        <p:blipFill>
          <a:blip r:embed="rId2"/>
          <a:stretch/>
        </p:blipFill>
        <p:spPr>
          <a:xfrm>
            <a:off x="3348000" y="3429000"/>
            <a:ext cx="1360440" cy="1368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5" descr="cabinet8_7"/>
          <p:cNvPicPr/>
          <p:nvPr/>
        </p:nvPicPr>
        <p:blipFill>
          <a:blip r:embed="rId3"/>
          <a:stretch/>
        </p:blipFill>
        <p:spPr>
          <a:xfrm>
            <a:off x="1042920" y="2997360"/>
            <a:ext cx="1430280" cy="19810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6" descr="cabinet11_10"/>
          <p:cNvPicPr/>
          <p:nvPr/>
        </p:nvPicPr>
        <p:blipFill>
          <a:blip r:embed="rId4"/>
          <a:stretch/>
        </p:blipFill>
        <p:spPr>
          <a:xfrm>
            <a:off x="5724360" y="2997360"/>
            <a:ext cx="17305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9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2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ck flexion, extension, lateral be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VDT users, typists, writers, copy editors, precise workers,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2"/>
          <a:stretch/>
        </p:blipFill>
        <p:spPr>
          <a:xfrm>
            <a:off x="1908000" y="3429000"/>
            <a:ext cx="1368720" cy="107964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5" descr="notebook%20only"/>
          <p:cNvPicPr/>
          <p:nvPr/>
        </p:nvPicPr>
        <p:blipFill>
          <a:blip r:embed="rId3"/>
          <a:stretch/>
        </p:blipFill>
        <p:spPr>
          <a:xfrm>
            <a:off x="4356000" y="2637000"/>
            <a:ext cx="266724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0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4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unk bending 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is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farmers, construc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ers, manufacturing workers,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Picture 4" descr="cabinet10_9"/>
          <p:cNvPicPr/>
          <p:nvPr/>
        </p:nvPicPr>
        <p:blipFill>
          <a:blip r:embed="rId2"/>
          <a:stretch/>
        </p:blipFill>
        <p:spPr>
          <a:xfrm>
            <a:off x="5292720" y="2133720"/>
            <a:ext cx="20368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0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uatt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e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4" name="Picture 4" descr=""/>
          <p:cNvPicPr/>
          <p:nvPr/>
        </p:nvPicPr>
        <p:blipFill>
          <a:blip r:embed="rId3"/>
          <a:stretch/>
        </p:blipFill>
        <p:spPr>
          <a:xfrm>
            <a:off x="4284720" y="2060640"/>
            <a:ext cx="1657440" cy="28810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5" descr=""/>
          <p:cNvPicPr/>
          <p:nvPr/>
        </p:nvPicPr>
        <p:blipFill>
          <a:blip r:embed="rId4"/>
          <a:stretch/>
        </p:blipFill>
        <p:spPr>
          <a:xfrm>
            <a:off x="1619280" y="4508640"/>
            <a:ext cx="180036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2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2" dur="500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st extension, flexion, ulnar dev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typists, repairmen, VDT users, tailors, packaging industry, butchers, textile workers,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8" name="Picture 4" descr=""/>
          <p:cNvPicPr/>
          <p:nvPr/>
        </p:nvPicPr>
        <p:blipFill>
          <a:blip r:embed="rId2"/>
          <a:stretch/>
        </p:blipFill>
        <p:spPr>
          <a:xfrm>
            <a:off x="6156360" y="2637000"/>
            <a:ext cx="1458720" cy="96192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5" descr=""/>
          <p:cNvPicPr/>
          <p:nvPr/>
        </p:nvPicPr>
        <p:blipFill>
          <a:blip r:embed="rId3"/>
          <a:stretch/>
        </p:blipFill>
        <p:spPr>
          <a:xfrm>
            <a:off x="1258920" y="2421000"/>
            <a:ext cx="1434960" cy="10159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6" descr=""/>
          <p:cNvPicPr/>
          <p:nvPr/>
        </p:nvPicPr>
        <p:blipFill>
          <a:blip r:embed="rId4"/>
          <a:stretch/>
        </p:blipFill>
        <p:spPr>
          <a:xfrm>
            <a:off x="3708360" y="2492280"/>
            <a:ext cx="151128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0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84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c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3" name="Object 4"/>
          <p:cNvGraphicFramePr/>
          <p:nvPr/>
        </p:nvGraphicFramePr>
        <p:xfrm>
          <a:off x="4427640" y="1628640"/>
          <a:ext cx="4066920" cy="501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7640" y="1628640"/>
                    <a:ext cx="4066920" cy="5013360"/>
                  </a:xfrm>
                  <a:prstGeom prst="rect">
                    <a:avLst/>
                  </a:prstGeom>
                  <a:ln w="381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5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0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7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longed sitting and static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VDT users, clerical work, textile workers,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7" name="Picture 4" descr="Figure 6: Stresses because of bifocal lenses"/>
          <p:cNvPicPr/>
          <p:nvPr/>
        </p:nvPicPr>
        <p:blipFill>
          <a:blip r:embed="rId2"/>
          <a:stretch/>
        </p:blipFill>
        <p:spPr>
          <a:xfrm>
            <a:off x="2916360" y="3933720"/>
            <a:ext cx="2663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9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4" dur="500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SmartArt Placeholder 1025"/>
          <p:cNvGrpSpPr/>
          <p:nvPr/>
        </p:nvGrpSpPr>
        <p:grpSpPr>
          <a:xfrm>
            <a:off x="0" y="990720"/>
            <a:ext cx="9143640" cy="4462920"/>
            <a:chOff x="0" y="990720"/>
            <a:chExt cx="9143640" cy="4462920"/>
          </a:xfrm>
        </p:grpSpPr>
        <p:cxnSp>
          <p:nvCxnSpPr>
            <p:cNvPr id="338" name="_s1028"/>
            <p:cNvCxnSpPr>
              <a:stCxn id="339" idx="0"/>
              <a:endCxn id="340" idx="2"/>
            </p:cNvCxnSpPr>
            <p:nvPr/>
          </p:nvCxnSpPr>
          <p:spPr>
            <a:xfrm flipH="1" flipV="1" rot="5400000">
              <a:off x="2658600" y="3296520"/>
              <a:ext cx="558360" cy="152460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1" name="_s1029"/>
            <p:cNvCxnSpPr>
              <a:stCxn id="342" idx="0"/>
              <a:endCxn id="340" idx="2"/>
            </p:cNvCxnSpPr>
            <p:nvPr/>
          </p:nvCxnSpPr>
          <p:spPr>
            <a:xfrm flipV="1">
              <a:off x="3699720" y="3779640"/>
              <a:ext cx="1800" cy="558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3" name="_s1030"/>
            <p:cNvCxnSpPr>
              <a:stCxn id="344" idx="0"/>
              <a:endCxn id="340" idx="2"/>
            </p:cNvCxnSpPr>
            <p:nvPr/>
          </p:nvCxnSpPr>
          <p:spPr>
            <a:xfrm flipV="1" rot="16200000">
              <a:off x="4183200" y="3295800"/>
              <a:ext cx="558360" cy="152604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5" name="_s1031"/>
            <p:cNvCxnSpPr>
              <a:stCxn id="346" idx="0"/>
              <a:endCxn id="340" idx="2"/>
            </p:cNvCxnSpPr>
            <p:nvPr/>
          </p:nvCxnSpPr>
          <p:spPr>
            <a:xfrm flipV="1" rot="16200000">
              <a:off x="4945320" y="2533680"/>
              <a:ext cx="558360" cy="305028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7" name="_s1032"/>
            <p:cNvCxnSpPr>
              <a:stCxn id="348" idx="0"/>
              <a:endCxn id="340" idx="2"/>
            </p:cNvCxnSpPr>
            <p:nvPr/>
          </p:nvCxnSpPr>
          <p:spPr>
            <a:xfrm flipH="1" flipV="1" rot="5400000">
              <a:off x="1898280" y="2535840"/>
              <a:ext cx="558360" cy="304596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9" name="_s1033"/>
            <p:cNvCxnSpPr>
              <a:stCxn id="350" idx="1"/>
              <a:endCxn id="351" idx="2"/>
            </p:cNvCxnSpPr>
            <p:nvPr/>
          </p:nvCxnSpPr>
          <p:spPr>
            <a:xfrm rot="10800000">
              <a:off x="7619040" y="2105640"/>
              <a:ext cx="218160" cy="1116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52" name="_s1034"/>
            <p:cNvCxnSpPr>
              <a:stCxn id="340" idx="3"/>
              <a:endCxn id="351" idx="2"/>
            </p:cNvCxnSpPr>
            <p:nvPr/>
          </p:nvCxnSpPr>
          <p:spPr>
            <a:xfrm flipV="1">
              <a:off x="4353480" y="2105640"/>
              <a:ext cx="3266640" cy="1116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351" name="_s1035"/>
            <p:cNvSpPr/>
            <p:nvPr/>
          </p:nvSpPr>
          <p:spPr>
            <a:xfrm>
              <a:off x="6966360" y="99072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PUBLIC HEALTH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_s1036"/>
            <p:cNvSpPr/>
            <p:nvPr/>
          </p:nvSpPr>
          <p:spPr>
            <a:xfrm>
              <a:off x="3047040" y="266436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OCCUPATIONA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HEALTH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_s1037"/>
            <p:cNvSpPr/>
            <p:nvPr/>
          </p:nvSpPr>
          <p:spPr>
            <a:xfrm>
              <a:off x="7837200" y="266436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..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HEALTH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_s1038"/>
            <p:cNvSpPr/>
            <p:nvPr/>
          </p:nvSpPr>
          <p:spPr>
            <a:xfrm>
              <a:off x="0" y="433800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OCCUPATIONA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MEDICIN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_s1039"/>
            <p:cNvSpPr/>
            <p:nvPr/>
          </p:nvSpPr>
          <p:spPr>
            <a:xfrm>
              <a:off x="6095520" y="433800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OCCUPATIONAL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NURS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_s1040"/>
            <p:cNvSpPr/>
            <p:nvPr/>
          </p:nvSpPr>
          <p:spPr>
            <a:xfrm>
              <a:off x="4571280" y="433800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ERGONOM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_s1041"/>
            <p:cNvSpPr/>
            <p:nvPr/>
          </p:nvSpPr>
          <p:spPr>
            <a:xfrm>
              <a:off x="3047040" y="433800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OCCUPATIONAL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SAFET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_s1042"/>
            <p:cNvSpPr/>
            <p:nvPr/>
          </p:nvSpPr>
          <p:spPr>
            <a:xfrm>
              <a:off x="1523880" y="4338000"/>
              <a:ext cx="130500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OCCUPATIONAL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HYGIEN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ntact str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p and hard su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hand as a hamm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knee as a hamm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0" name="Picture 4" descr=""/>
          <p:cNvPicPr/>
          <p:nvPr/>
        </p:nvPicPr>
        <p:blipFill>
          <a:blip r:embed="rId4"/>
          <a:stretch/>
        </p:blipFill>
        <p:spPr>
          <a:xfrm>
            <a:off x="1979640" y="4292640"/>
            <a:ext cx="2016000" cy="18032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5" descr="Figure 3: Contact stress from the table edge"/>
          <p:cNvPicPr/>
          <p:nvPr/>
        </p:nvPicPr>
        <p:blipFill>
          <a:blip r:embed="rId5"/>
          <a:stretch/>
        </p:blipFill>
        <p:spPr>
          <a:xfrm>
            <a:off x="6756480" y="1844640"/>
            <a:ext cx="2387520" cy="132084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6" descr=""/>
          <p:cNvPicPr/>
          <p:nvPr/>
        </p:nvPicPr>
        <p:blipFill>
          <a:blip r:embed="rId6"/>
          <a:stretch/>
        </p:blipFill>
        <p:spPr>
          <a:xfrm>
            <a:off x="5003640" y="4292640"/>
            <a:ext cx="201636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3" dur="20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0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5" dur="2000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2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7" dur="2000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4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ffff"/>
                </a:solidFill>
                <a:latin typeface="Arial"/>
              </a:rPr>
              <a:t>فاکتورهای سایکوسوشیال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تقاضای بالای شغل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عدم رضایت شغل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عدم حمایت از طرف همکاران یا سوپروایز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عدم امنیت شغل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نگرانی در مورد آینده کار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نتایج مالی بیمار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عدم حمایت از طرف اعضاء خانواده و افسردگ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nodeType="clickEffect" fill="hold">
                      <p:stCondLst>
                        <p:cond delay="0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150640"/>
            <a:ext cx="777240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00"/>
                </a:solidFill>
                <a:latin typeface="Arial"/>
                <a:cs typeface="Traffic"/>
              </a:rPr>
              <a:t>آموزش كار با كامپيوتر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Titr"/>
              </a:rPr>
              <a:t>وضعيت كاربر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بازو و ساق پا دروضعيت عمودي باش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ساعد وران در وضعيت افقي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پاها روي زمين (يا زير پايي)باش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پشتي صندلي‌انحناي به سمت‌داخل پشت‌را محافظت كن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وزن تنه روي‌سطوح باسن وران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به طور مساوي تقسيم شده باش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cs typeface="Traffic"/>
              </a:rPr>
              <a:t>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                                                               </a:t>
            </a:r>
            <a:r>
              <a:rPr b="0" lang="fa-IR" sz="1000" spc="-1" strike="noStrike" u="sng">
                <a:solidFill>
                  <a:srgbClr val="86d1ec"/>
                </a:solidFill>
                <a:uFillTx/>
                <a:latin typeface="Arial"/>
                <a:cs typeface="Traffic"/>
                <a:hlinkClick r:id="rId6" action="ppaction://hlinksldjump"/>
              </a:rPr>
              <a:t>برگشت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Rectangle 4"/>
          <p:cNvSpPr/>
          <p:nvPr/>
        </p:nvSpPr>
        <p:spPr>
          <a:xfrm>
            <a:off x="2505240" y="5864400"/>
            <a:ext cx="1050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0" name="Picture 6" descr=""/>
          <p:cNvPicPr/>
          <p:nvPr/>
        </p:nvPicPr>
        <p:blipFill>
          <a:blip r:embed="rId7"/>
          <a:stretch/>
        </p:blipFill>
        <p:spPr>
          <a:xfrm>
            <a:off x="4772160" y="1676520"/>
            <a:ext cx="37908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Titr"/>
              </a:rPr>
              <a:t>تنظيم صندل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raffic"/>
              </a:rPr>
              <a:t>ارتفاع صندلي رابه صورتي تنظيم كنيد كه ارتفاع آرنج در حالتي كه دستها از طرفين آويزان است با ارتفاع ميز يكسان شو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raffic"/>
              </a:rPr>
              <a:t>فضاي آزاد بين لبه جلوي صندلي و پشت زانوبه اندازه يك مشت گره كرده باش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raffic"/>
              </a:rPr>
              <a:t>پشتي صندلي طوري تنظيم شودكه گودي كمر را دربر  گير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raffic"/>
              </a:rPr>
              <a:t>در صورتي كه پاها بالاتر از زمين قرار گرفت از زير پايي استفاده نماييد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                                                                  </a:t>
            </a:r>
            <a:r>
              <a:rPr b="0" lang="fa-IR" sz="1200" spc="-1" strike="noStrike" u="sng">
                <a:solidFill>
                  <a:srgbClr val="86d1ec"/>
                </a:solidFill>
                <a:uFillTx/>
                <a:latin typeface="Arial"/>
                <a:cs typeface="Traffic"/>
                <a:hlinkClick r:id="rId5" action="ppaction://hlinksldjump"/>
              </a:rPr>
              <a:t>برگشت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4" name="Picture 5" descr="healthily01"/>
          <p:cNvPicPr/>
          <p:nvPr/>
        </p:nvPicPr>
        <p:blipFill>
          <a:blip r:embed="rId6"/>
          <a:stretch/>
        </p:blipFill>
        <p:spPr>
          <a:xfrm>
            <a:off x="4648320" y="1676520"/>
            <a:ext cx="41907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Titr"/>
              </a:rPr>
              <a:t>صفحه كليد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زاويه آرنج بايد بي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100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-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80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 درجه باش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داراي شيب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25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-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0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 درجه باش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تكيه گاه مچ دست داشته باش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1400" spc="-1" strike="noStrike" u="sng">
                <a:solidFill>
                  <a:srgbClr val="86d1ec"/>
                </a:solidFill>
                <a:uFillTx/>
                <a:latin typeface="Arial"/>
                <a:cs typeface="Traffic"/>
                <a:hlinkClick r:id="rId4" action="ppaction://hlinksldjump"/>
              </a:rPr>
              <a:t>برگشت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8" name="Picture 6" descr=""/>
          <p:cNvPicPr/>
          <p:nvPr/>
        </p:nvPicPr>
        <p:blipFill>
          <a:blip r:embed="rId5"/>
          <a:stretch/>
        </p:blipFill>
        <p:spPr>
          <a:xfrm>
            <a:off x="5562720" y="4191120"/>
            <a:ext cx="2371680" cy="202860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7" descr=""/>
          <p:cNvPicPr/>
          <p:nvPr/>
        </p:nvPicPr>
        <p:blipFill>
          <a:blip r:embed="rId6"/>
          <a:stretch/>
        </p:blipFill>
        <p:spPr>
          <a:xfrm>
            <a:off x="5521320" y="1676520"/>
            <a:ext cx="24606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2" descr="Ergo32a"/>
          <p:cNvPicPr/>
          <p:nvPr/>
        </p:nvPicPr>
        <p:blipFill>
          <a:blip r:embed="rId1"/>
          <a:stretch/>
        </p:blipFill>
        <p:spPr>
          <a:xfrm>
            <a:off x="4572000" y="4292640"/>
            <a:ext cx="4248000" cy="22320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471" name="Picture 3" descr="Ergo30a"/>
          <p:cNvPicPr/>
          <p:nvPr/>
        </p:nvPicPr>
        <p:blipFill>
          <a:blip r:embed="rId2"/>
          <a:stretch/>
        </p:blipFill>
        <p:spPr>
          <a:xfrm>
            <a:off x="324000" y="1700280"/>
            <a:ext cx="4392360" cy="23907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7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4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Ergo32b"/>
          <p:cNvPicPr/>
          <p:nvPr/>
        </p:nvPicPr>
        <p:blipFill>
          <a:blip r:embed="rId1"/>
          <a:stretch/>
        </p:blipFill>
        <p:spPr>
          <a:xfrm>
            <a:off x="900000" y="2349360"/>
            <a:ext cx="3527640" cy="28083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473" name="Picture 3" descr="Ergo30b"/>
          <p:cNvPicPr/>
          <p:nvPr/>
        </p:nvPicPr>
        <p:blipFill>
          <a:blip r:embed="rId2"/>
          <a:stretch/>
        </p:blipFill>
        <p:spPr>
          <a:xfrm>
            <a:off x="4932360" y="2276640"/>
            <a:ext cx="3745080" cy="28796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1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6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5" name="Picture 3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3886200" cy="27432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4" descr=""/>
          <p:cNvPicPr/>
          <p:nvPr/>
        </p:nvPicPr>
        <p:blipFill>
          <a:blip r:embed="rId2"/>
          <a:stretch/>
        </p:blipFill>
        <p:spPr>
          <a:xfrm>
            <a:off x="4876920" y="228600"/>
            <a:ext cx="3809880" cy="274320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5" descr=""/>
          <p:cNvPicPr/>
          <p:nvPr/>
        </p:nvPicPr>
        <p:blipFill>
          <a:blip r:embed="rId3"/>
          <a:stretch/>
        </p:blipFill>
        <p:spPr>
          <a:xfrm>
            <a:off x="2743200" y="3505320"/>
            <a:ext cx="40384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48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VENTION OF NIH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0" y="2349360"/>
            <a:ext cx="9144000" cy="29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LO-WH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definition of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Occupational Health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motion &amp; maintenance of the highest degree of  Physical , Mental &amp; Social well-being of workers in all occupations.”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0" name="Picture 4" descr="the_ear_diagra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RING LO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ernal o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acted ceru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eign bo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oustic 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longed noise expo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otraum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xic agents &amp; Dru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eas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nodeType="clickEffect" fill="hold">
                      <p:stCondLst>
                        <p:cond delay="0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0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CCUPATIONAL HEARING LO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80880" y="2362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oustic traumatic inj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H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xic induced (industrial ototoxica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nodeType="clickEffect" fill="hold">
                      <p:stCondLst>
                        <p:cond delay="0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DUSTRIAL OTOTOXICA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VY METALS:     Pb, mercury, arsenic, cobalt, lithium, thoriu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MICALS:     cyanide, benzene, aniline, CS2, CO, CCL4, styrene, toluen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S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ino glycosides, loop diuretics, anti neoplastics, salicylates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ff"/>
                </a:solidFill>
                <a:latin typeface="Arial"/>
              </a:rPr>
              <a:t>وسایل حفاظت فرد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 plu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al c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 mu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ar plu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برخی از کارگران از گلوله های پنبه ای بجای پلاک گوش استفاده می کند که متاسفانه به هیچ وجه کارآیی ندار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1" name="Picture 5" descr="earplugs"/>
          <p:cNvPicPr/>
          <p:nvPr/>
        </p:nvPicPr>
        <p:blipFill>
          <a:blip r:embed="rId2"/>
          <a:stretch/>
        </p:blipFill>
        <p:spPr>
          <a:xfrm>
            <a:off x="0" y="3505320"/>
            <a:ext cx="4038480" cy="289548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7" descr="02_Custom-Plugs_t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05520" y="3581280"/>
            <a:ext cx="40384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ar muf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5" descr="13404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981080"/>
            <a:ext cx="3962520" cy="327672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7" descr="3M-1450"/>
          <p:cNvPicPr/>
          <p:nvPr/>
        </p:nvPicPr>
        <p:blipFill>
          <a:blip r:embed="rId3"/>
          <a:stretch/>
        </p:blipFill>
        <p:spPr>
          <a:xfrm>
            <a:off x="5105520" y="1905120"/>
            <a:ext cx="35812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ff"/>
                </a:solidFill>
                <a:latin typeface="Arial"/>
              </a:rPr>
              <a:t>بهترین وسیله حفاظت شنوایی کدام است؟</a:t>
            </a:r>
            <a:r>
              <a:rPr b="0" lang="fa-IR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Picture 6" descr="02_Custom-Plugs_tn"/>
          <p:cNvPicPr/>
          <p:nvPr/>
        </p:nvPicPr>
        <p:blipFill>
          <a:blip r:embed="rId1"/>
          <a:stretch/>
        </p:blipFill>
        <p:spPr>
          <a:xfrm>
            <a:off x="533520" y="1981080"/>
            <a:ext cx="3429000" cy="396252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7" descr="134049"/>
          <p:cNvPicPr/>
          <p:nvPr/>
        </p:nvPicPr>
        <p:blipFill>
          <a:blip r:embed="rId2"/>
          <a:stretch/>
        </p:blipFill>
        <p:spPr>
          <a:xfrm>
            <a:off x="5029200" y="1981080"/>
            <a:ext cx="35812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e81808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2" name="Picture 4" descr="BK01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3" name="Rectangle 5"/>
          <p:cNvSpPr/>
          <p:nvPr/>
        </p:nvSpPr>
        <p:spPr>
          <a:xfrm>
            <a:off x="4449600" y="5105520"/>
            <a:ext cx="469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1808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Rectangle 6"/>
          <p:cNvSpPr/>
          <p:nvPr/>
        </p:nvSpPr>
        <p:spPr>
          <a:xfrm>
            <a:off x="4648320" y="5029200"/>
            <a:ext cx="449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81808"/>
                </a:solidFill>
                <a:latin typeface="Verdana"/>
              </a:rPr>
              <a:t>Thanks a lo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68000" y="2276640"/>
            <a:ext cx="835164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Occupational Hygiene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 the branch of Occupation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lth of Anticipating , Recognizing , Evaluating &amp; Controll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lth hazards in the working environmen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UNCTIONS &amp; ACTIVITIES</a:t>
            </a:r>
            <a:br>
              <a:rPr sz="32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of</a:t>
            </a:r>
            <a:br>
              <a:rPr sz="2400"/>
            </a:b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OCCUPATIONAL MEDIC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285264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Health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examination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of workers &amp; applicam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eparation &amp; arrangement of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protective &amp; contro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ograms for workers exposed to health haz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VARIETY of HEALTH EXAMIN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employment (preplacement) Health Exam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iodic Health Examination – Gene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iodic Health Examination – Specif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Ionizing Rad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Asbes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L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Mercu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No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VARIETY of HEALTH EXAMIN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urn  to  work  Examination – post illn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urn  to  work  Examination – post inju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urn  to  work  Examination – after a long abse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ight Personnel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e Fighter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er Personnel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tor vehicle operator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t ( Termination )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t Retirement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معاینات بدو استخدام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ahoma"/>
                <a:cs typeface="Tahoma"/>
              </a:rPr>
              <a:t>قبل از شروع به کار انجام شود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ahoma"/>
                <a:cs typeface="Tahoma"/>
              </a:rPr>
              <a:t>احراز دقیق هویت فر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ahoma"/>
                <a:cs typeface="Tahoma"/>
              </a:rPr>
              <a:t>تعیین دقیق وضعیت خدمت سرباز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ahoma"/>
                <a:cs typeface="Tahoma"/>
              </a:rPr>
              <a:t>شناسایی دقیق شغل فر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ahoma"/>
                <a:cs typeface="Tahoma"/>
              </a:rPr>
              <a:t>آیا شغل فعلی فرد مشخص است؟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ahoma"/>
                <a:cs typeface="Tahoma"/>
              </a:rPr>
              <a:t>آیا در سازمان جابجایی شغلی وجود دارد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ahoma"/>
                <a:cs typeface="Tahoma"/>
              </a:rPr>
              <a:t>احتمال تغییر شغل فرد در آینده چقدر است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ahoma"/>
                <a:cs typeface="Tahoma"/>
              </a:rPr>
              <a:t>در صورت ارتقا شغلی فرد چه نیازمندی های شغلی در آینده باید دارا باشد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04:46:36Z</dcterms:created>
  <dc:creator>health</dc:creator>
  <dc:description/>
  <dc:language>en-US</dc:language>
  <cp:lastModifiedBy>it</cp:lastModifiedBy>
  <dcterms:modified xsi:type="dcterms:W3CDTF">2019-12-25T04:04:55Z</dcterms:modified>
  <cp:revision>121</cp:revision>
  <dc:subject/>
  <dc:title>MUSCULOSKELETAL DISORDERS</dc:title>
</cp:coreProperties>
</file>